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D97-2F6B-49B8-BA30-CFF0D70A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BC4C-C383-4913-9EA1-B28E2346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76F-486F-4C2A-B2C5-73753329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A29-D5E8-4B9A-88F8-C59E2C9A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C21-212F-4167-945F-E990F472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8C5-3346-4029-974B-676FA5B4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1C3-AA04-422B-8BA6-7DA6D453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D9E-F438-4E88-B53E-EA3F549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729-5D2D-4B2F-AC88-7FA6B90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23D-C376-4203-BFE5-06065AE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B3D-B55F-49C8-A7E8-1A30A68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36C-077C-4DC8-8AF6-BB4EC91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C74-4426-46CE-AD8F-EB08F80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CCA-BE6D-4F5D-BD08-C5EF54D9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772-72CF-46DD-9A5F-46CD949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D5E-DFD2-4C1A-853A-2AF015C6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o siento, no puedo venir a tu casa. Nuestra familia caminamos al mar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os antes.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e. Yo quiero divertirme! ¿por qué no vienes a mi cas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minutos antes.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 mi amig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Aww quiere vivir tu vid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ras antes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No es el cumpleaños de tu mamá ahor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 la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Buenos tardes y  Si!! Mis primos estoy en mi casa. Tienen están muy felices ahora. Yo tengo a hago la trabaj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de escuela. Mi hermana esta muy energética! Ella es habla con muy gentes! ¿Dónde esta tu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no puedes venir en mi fiesta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dónde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. No puedo venir en tu fiesta. Mi familia es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ojados ahora… pero quiénes en tu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ninder : Co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1981080" y="182880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819520" y="3276720"/>
            <a:ext cx="3733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is primas son aburridas pero tus primas son muy divertidas! Ellos no tienen v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eres una feliz pequeña niña. Buenas noches Masii, te amo &lt;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horas antes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n mi fiesta estoy mi familia. Yo so muy cansadas! Buenas noches Maninder. Adiós!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horas antes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2:52Z</dcterms:created>
  <dc:creator>FriscoISD</dc:creator>
  <dc:description/>
  <dc:language>en-US</dc:language>
  <cp:lastModifiedBy>NYCDOE</cp:lastModifiedBy>
  <dcterms:modified xsi:type="dcterms:W3CDTF">2012-12-07T15:50:46Z</dcterms:modified>
  <cp:revision>115</cp:revision>
  <dc:subject/>
  <dc:title>Profile</dc:title>
</cp:coreProperties>
</file>